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4CA-0E66-433B-A73E-2737F73D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AF2-E8AB-48AB-AE82-B8219C2E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72C-8611-4AAC-A95D-954B8149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B14F-6334-4420-B145-40DFD58E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8BB-12C3-46F7-B797-AEED28A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47C4-2BD3-4689-8E40-03D3C382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912-F003-469B-9F8B-86198B7C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254-7071-4BAB-8EA5-F3E7D26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E10-7BC4-4C32-9C95-78DBBF4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0CB-44F8-4831-8924-08C7BF8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977-7E4A-4A77-AD13-506044C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4F2-CEE7-40A3-8467-E6DEBFB1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C5E8-2E57-4AA0-B5F5-0769B07AA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hyperlink" Target="http://www.iplayoutside.com/iplay/images/view.php?IMG_TAG=Events/2002/05/4949/019.jpg&amp;PHPSESSID=10b123d2aae01d825e019644fe51a943" TargetMode="Externa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kepics.com/pictures/1615463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bikepics.com/pictures/1613283/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bikepics.com/pictures/1614068/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de the New 25-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ountain Bike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Veterans’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228400">
            <a:off x="192240" y="4708080"/>
            <a:ext cx="2620800" cy="16700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w Op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280" y="533520"/>
            <a:ext cx="89917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ome Play in the Dark</a:t>
            </a:r>
            <a:endParaRPr b="1" lang="en-US" sz="3200" spc="1" strike="noStrike">
              <a:ln w="9360">
                <a:solidFill>
                  <a:srgbClr val="99cc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From All O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952880" y="4267080"/>
            <a:ext cx="419112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2133720"/>
            <a:ext cx="3810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Monotype Corsiva"/>
              </a:rPr>
              <a:t>Don’t be Afraid of the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8600" y="4095720"/>
            <a:ext cx="3276720" cy="276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81680" y="2514600"/>
            <a:ext cx="2362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Bradley Hand ITC"/>
              </a:rPr>
              <a:t>Bring a F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124080" y="3809520"/>
            <a:ext cx="3657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Have a little 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4761000"/>
            <a:ext cx="3886200" cy="20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9072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400640"/>
            <a:ext cx="2743200" cy="2457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58000" y="342900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Monotype Corsiva"/>
              </a:rPr>
              <a:t>RIDE RIDE RIDE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her-motorcycle.com"/>
          <p:cNvPicPr/>
          <p:nvPr/>
        </p:nvPicPr>
        <p:blipFill>
          <a:blip r:embed="rId2"/>
          <a:stretch/>
        </p:blipFill>
        <p:spPr>
          <a:xfrm>
            <a:off x="1066680" y="0"/>
            <a:ext cx="7143840" cy="161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76920" y="3352680"/>
            <a:ext cx="4267080" cy="3238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Woman Motorcycle Rider"/>
          <p:cNvPicPr/>
          <p:nvPr/>
        </p:nvPicPr>
        <p:blipFill>
          <a:blip r:embed="rId4"/>
          <a:stretch/>
        </p:blipFill>
        <p:spPr>
          <a:xfrm>
            <a:off x="0" y="1752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linic Pi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90720" y="4495680"/>
            <a:ext cx="236196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stellar"/>
              </a:rPr>
              <a:t>Bikes are For the Big Kid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Info: Alick Saunders - Photograph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343400"/>
            <a:ext cx="2590560" cy="172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175248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25718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35:39Z</dcterms:created>
  <dc:creator>762703</dc:creator>
  <dc:description/>
  <dc:language>en-US</dc:language>
  <cp:lastModifiedBy>762703</cp:lastModifiedBy>
  <dcterms:modified xsi:type="dcterms:W3CDTF">2009-03-30T16:09:30Z</dcterms:modified>
  <cp:revision>3</cp:revision>
  <dc:subject/>
  <dc:title>Slide 1</dc:title>
</cp:coreProperties>
</file>